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6E478-6B28-48C7-B5C3-73A69E5A2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A6859-2BA3-410E-B617-A54D71886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и во претходните наставни единици, треба да се следи дневниот ред и очекуваните резултати дадени на почетокот на наставната еди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33C76-2529-4921-9FBF-022FCC47C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B2088-97D0-4952-A34A-0E4F43ADBA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974-93CE-47D0-9AD6-A5FB2008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8C5-720F-4363-937E-04CD686C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A45-9002-4F83-AA7A-521796AB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3E2-2E1A-43A9-BAB7-B9DA29FB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098-6E27-4E07-98F4-883DCEC0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FB63-38B0-49AA-A4AB-D7BE797C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168-695A-47BA-8BBD-6B3012A3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FAA-A96A-4F31-B9F8-94E77C32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B31-C00E-47A2-86DC-2AD304D5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A54-79BE-4D8D-8B69-ADF890B3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AC23-BA67-4620-9F4A-3BAC78E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53BE-0154-4678-ABDD-B4E715D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EA899-680A-4A4D-B552-0A87ED3BE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6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Наставна единица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898989"/>
                </a:solidFill>
                <a:latin typeface="Calibri"/>
              </a:rPr>
              <a:t>Дневен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Дневен р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34960"/>
            <a:ext cx="851364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000000"/>
                </a:solidFill>
                <a:latin typeface="Calibri"/>
              </a:rPr>
              <a:t>Теми опфатени со предавањата од првиот д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Отворање на курсот и запозна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Вовед во начелата и постапките за електронски доказ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вори на доказ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Daniela</cp:lastModifiedBy>
  <cp:lastPrinted>2012-02-11T12:03:47Z</cp:lastPrinted>
  <dcterms:modified xsi:type="dcterms:W3CDTF">2013-07-24T23:51:41Z</dcterms:modified>
  <cp:revision>18</cp:revision>
  <dc:subject/>
  <dc:title>Introductory Cybercrime Training for Judges and Prosecutors</dc:title>
</cp:coreProperties>
</file>